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bomb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AE6-0F0B-4386-8AED-B84C4CF7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C85-06F9-4DD9-B7D5-9DEB4854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ABE-D7B1-4B82-B0CD-303F849E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44-0FE1-4AD8-B436-1D6C5076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E14-2B90-4258-9481-1E456B9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E89-9C04-41DC-90A8-E496FCE1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1C8-7319-4A44-B3A3-8D569222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EF1-8680-4349-A81D-793DE37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ED8-13AF-4D13-9DDD-8771F1E1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5FD-0725-4DB8-948F-94452E0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EF9-ECA6-4549-9C72-49D0E1A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A16-A84E-459B-8DEF-12B8026F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7F15-D0CA-4BF9-9C02-5A655513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Mass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4,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41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3, the Oregon Trail brought the first large groups of settlers (about 1,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is the capital state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t fou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found in November 11, 1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790960" cy="3505320"/>
          </a:xfrm>
          <a:prstGeom prst="rect">
            <a:avLst/>
          </a:prstGeom>
          <a:ln w="9360">
            <a:solidFill>
              <a:srgbClr val="66ff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bi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state bird is the Willow Gold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51814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capital city is Olym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305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low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state flower is th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n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’s nickname is the Chinoo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1:36:02Z</dcterms:created>
  <dc:creator>Mother of Divine Grace</dc:creator>
  <dc:description/>
  <dc:language>en-US</dc:language>
  <cp:lastModifiedBy> </cp:lastModifiedBy>
  <dcterms:modified xsi:type="dcterms:W3CDTF">2012-05-20T21:31:02Z</dcterms:modified>
  <cp:revision>6</cp:revision>
  <dc:subject/>
  <dc:title>Washington</dc:title>
</cp:coreProperties>
</file>